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A959-292B-430F-92CB-4DE61E12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4EA0-0BDD-494F-BA04-E324F9AC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9C3-B9E0-46FC-B5E9-921F3C8C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A617-E086-4239-AC79-F8A411A7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9CC-2F4F-4F1C-8DDE-409C4F7B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EF4-3C0B-4BBB-B5BD-CB5EA00E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997-9B3D-4078-BA76-28B89FD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0D8-3FA9-4420-8627-5BA7223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12D-2701-4732-8F5C-9DD03723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711-9F11-4D56-8D24-4D4207B7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7BB-34DB-49B2-9525-902FA2D5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1E6-790C-4239-BFB1-413A76A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BD1-BC1E-4619-B345-7F0B8B54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F6B-B188-46C1-82EA-1465C9FB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8120" y="60912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AC8-B73D-4BBC-89AF-B605BC6C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D29-2D97-49BA-B57E-A4557BB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476-5628-4DDC-AC24-FC9398DA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033-D8C7-40E4-B066-9858116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2DEE-01D1-450C-BDDC-59A4CE96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REPUBLIKA SRP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  <a:ea typeface="Calibri"/>
              </a:rPr>
              <a:t>FLOODS RECOV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dmila Mihi</a:t>
            </a:r>
            <a:r>
              <a:rPr b="1" lang="sr-Latn-BA" sz="2000" spc="-1" strike="noStrike">
                <a:solidFill>
                  <a:srgbClr val="000000"/>
                </a:solidFill>
                <a:latin typeface="Calibri"/>
                <a:ea typeface="Calibri"/>
              </a:rPr>
              <a:t>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Assistant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inistry of Fin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publika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arajevo, October 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280" y="76464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the Dam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0920" y="1989000"/>
            <a:ext cx="8062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Register of Damage is a datab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ich includes the data on the individual damages to residential facilities, business facilities, energy and agriculture facilities; equipment, machinery crops and plants; livestock; transport infrastructure; water supply and sanitation facilities; water protection and irrigation facilities and public institution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data from the Register is  public and published on the Official web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ww.vladars.net  and www.Obnovasrpsk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468520" y="1341360"/>
            <a:ext cx="8102520" cy="8534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ucher Payment Instrument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„Обнова Српске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 up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5000,00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ocurement of goods for building and reconstruction, furniture, utilit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: 01.07.201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66 entrepreneurs signed contract with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A total of 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18.7</a:t>
            </a:r>
            <a:r>
              <a:rPr b="1" lang="en-US" sz="2200" spc="-1" strike="noStrike">
                <a:solidFill>
                  <a:srgbClr val="0d0d0d"/>
                </a:solidFill>
                <a:latin typeface="Calibri"/>
              </a:rPr>
              <a:t>14</a:t>
            </a:r>
            <a:r>
              <a:rPr b="1" lang="sr-CS" sz="2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ayment car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s been distributed until </a:t>
            </a:r>
            <a:r>
              <a:rPr b="0" lang="en-US" sz="2200" spc="-1" strike="noStrike">
                <a:solidFill>
                  <a:srgbClr val="0d0d0d"/>
                </a:solidFill>
                <a:latin typeface="Calibri"/>
              </a:rPr>
              <a:t>0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2014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19.27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registered for payment card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280" y="404280"/>
            <a:ext cx="5553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opos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 recovery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62828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als from Republika Srpska Government are delivered in accordance with recommendations from RNA-P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Estimated value </a:t>
            </a:r>
            <a:r>
              <a:rPr b="1" lang="sr-CS" sz="2400" spc="-1" strike="noStrike">
                <a:solidFill>
                  <a:srgbClr val="0d0d0d"/>
                </a:solidFill>
                <a:latin typeface="Calibri"/>
                <a:ea typeface="Calibri"/>
              </a:rPr>
              <a:t>705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  <a:ea typeface="Calibri"/>
              </a:rPr>
              <a:t>.000.000 B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jects for: repairing damages to agricultural and livestock production, linking primary production and manufacturi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procurement equipment for hail protection, development of forecasting and reporting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52.5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364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and recovery of primary and secondary schoo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.290.472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alth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urement of sanitary vehicle for hospitals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0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ublic utilities, providing conditions for efficient delivering public servic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6.481.77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811160"/>
            <a:ext cx="849636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esidential buildings 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72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power distribution networ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17.601.42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nsport and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railway Modrica-Sama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rehabilitation postal network, rehabilitation roads and procurement equipment and transport vehicle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167.020.000,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posed projects for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191592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ivelihoods and emplo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and recovery of production capacitie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damage to the tourism,  support to employing in floods area, training for unemployed persons, employment disabled persons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455.796.637,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hart 4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530208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812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io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rivate and public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rt to the vulnerable social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gricultur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public servic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creasing future emergency ri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principl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ild Back Better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admila Mihi</a:t>
            </a:r>
            <a:r>
              <a:rPr b="0" lang="sr-Latn-BA" sz="3200" spc="-1" strike="noStrike">
                <a:solidFill>
                  <a:srgbClr val="0d0d0d"/>
                </a:solidFill>
                <a:latin typeface="Calibri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Ministry of Fi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Republika Srp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886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equences of floods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000" y="1699920"/>
            <a:ext cx="78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s and Losse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1.893.830.00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ritory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 – 40% of RS teritory, 58% of the total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tality – due to floods 19 persons los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laced persons (55.000 peo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rmihic\Desktop\6df35_poplave-republika-srpska-banja-luka-tviter-1400337757-498631.jpg"/>
          <p:cNvPicPr/>
          <p:nvPr/>
        </p:nvPicPr>
        <p:blipFill>
          <a:blip r:embed="rId1"/>
          <a:stretch/>
        </p:blipFill>
        <p:spPr>
          <a:xfrm>
            <a:off x="1692360" y="1844640"/>
            <a:ext cx="325440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obijeljina.org/galerija/galerija/gal_38_slika_1618_velika.jpg"/>
          <p:cNvPicPr/>
          <p:nvPr/>
        </p:nvPicPr>
        <p:blipFill>
          <a:blip r:embed="rId2"/>
          <a:stretch/>
        </p:blipFill>
        <p:spPr>
          <a:xfrm>
            <a:off x="4946760" y="1844640"/>
            <a:ext cx="3392280" cy="19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sobijeljina.org/galerija/galerija/gal_38_slika_1658_velika.jpg"/>
          <p:cNvPicPr/>
          <p:nvPr/>
        </p:nvPicPr>
        <p:blipFill>
          <a:blip r:embed="rId3"/>
          <a:stretch/>
        </p:blipFill>
        <p:spPr>
          <a:xfrm>
            <a:off x="1692360" y="3753000"/>
            <a:ext cx="325440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vijesti365.com/wp-content/uploads/2014/05/poplave-modrica-dnevne.jpg"/>
          <p:cNvPicPr/>
          <p:nvPr/>
        </p:nvPicPr>
        <p:blipFill>
          <a:blip r:embed="rId4"/>
          <a:stretch/>
        </p:blipFill>
        <p:spPr>
          <a:xfrm>
            <a:off x="4946760" y="3759120"/>
            <a:ext cx="3392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60912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 the lens of a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699920"/>
            <a:ext cx="784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static.mondo.rs/Picture/346220/jpeg/doboj-4.jpg"/>
          <p:cNvPicPr/>
          <p:nvPr/>
        </p:nvPicPr>
        <p:blipFill>
          <a:blip r:embed="rId1"/>
          <a:stretch/>
        </p:blipFill>
        <p:spPr>
          <a:xfrm>
            <a:off x="1619280" y="1844640"/>
            <a:ext cx="3394080" cy="19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images3.kurir-info.rs/slika-900x608/poplave-bosna-doboj-foto-beta-1401108056-504851.jpg"/>
          <p:cNvPicPr/>
          <p:nvPr/>
        </p:nvPicPr>
        <p:blipFill>
          <a:blip r:embed="rId2"/>
          <a:stretch/>
        </p:blipFill>
        <p:spPr>
          <a:xfrm>
            <a:off x="5013360" y="1844640"/>
            <a:ext cx="3213000" cy="19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banjaluka.com/wp-content/uploads/2014/05/Banjaluka_nakon_poplava_2.jpg"/>
          <p:cNvPicPr/>
          <p:nvPr/>
        </p:nvPicPr>
        <p:blipFill>
          <a:blip r:embed="rId3"/>
          <a:stretch/>
        </p:blipFill>
        <p:spPr>
          <a:xfrm>
            <a:off x="1619280" y="3792600"/>
            <a:ext cx="3394080" cy="190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novosti.rs/upload/images/2014/04/25n/rs%20poplave.jpg"/>
          <p:cNvPicPr/>
          <p:nvPr/>
        </p:nvPicPr>
        <p:blipFill>
          <a:blip r:embed="rId4"/>
          <a:stretch/>
        </p:blipFill>
        <p:spPr>
          <a:xfrm>
            <a:off x="5013360" y="3792600"/>
            <a:ext cx="32130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85680" y="60912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ow RS reacted to mitigate the effects caused by floods</a:t>
            </a:r>
            <a:r>
              <a:rPr b="1" lang="sr-B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84428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and municipalities started with Damage Census and participated in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ing funds for the reconstruction of the RS: pay-pal accou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B and IMF negotiations, participation at Donor conference, preparation of new legisl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Register of Da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Solidarity Fund has been establi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640" y="404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is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8392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Assembly of Republika Srpska according urgent procedure adopted   Law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olidarity Fund for the Republic of Srpska’s Re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Special Contribution to Solid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Fees for Using Natural Resources for the Purpose of Electricity Gen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the Taxes on the Us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ion of Asset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Taxes of the Republic of Srp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amending the Law on special procedures for tax debt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aw on the Amendments to the Law on Property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ipulated the allocation of the 5, 000 BAM payment card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on of residential fac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es for using hydroelectric facilities have been increased from 0,005 BAM to 0,010 BAM, as well as fees for the use of non-renewable natural resources from 0,003 BAM to 0,006 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amount of the taxes on motor vehicles is increased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nge of 25% to 50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 on the possession of firearms and ammunition for personal safety has been increased by 50% compared to the previous tax a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gislation Eff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989000"/>
            <a:ext cx="842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taxpayers affected by the floods shall be exempted from paying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pecial tax for 20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scheduling has been introduced for the taxpayers who suff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 material damage during the floods/ possibility to reschedule  taxes            due for payment by 30 June 2014 with one-year interest-free grace period and without the need for submitting the collater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as been allowed to the units of local government to stipulate tax exemption on property for a specified period for all those taxpayers who suffered material damages caused by the floods in May 201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43320" y="620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lidarity F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900000" y="1969920"/>
            <a:ext cx="3610080" cy="4627800"/>
          </a:xfrm>
          <a:custGeom>
            <a:avLst/>
            <a:gdLst>
              <a:gd name="textAreaLeft" fmla="*/ 176040 w 3610080"/>
              <a:gd name="textAreaRight" fmla="*/ 3434040 w 3610080"/>
              <a:gd name="textAreaTop" fmla="*/ 176040 h 4627800"/>
              <a:gd name="textAreaBottom" fmla="*/ 4451760 h 4627800"/>
            </a:gdLst>
            <a:ahLst/>
            <a:rect l="textAreaLeft" t="textAreaTop" r="textAreaRight" b="textAreaBottom"/>
            <a:pathLst>
              <a:path w="21600" h="27689">
                <a:moveTo>
                  <a:pt x="3600" y="0"/>
                </a:moveTo>
                <a:arcTo wR="3600" hR="3600" stAng="16200000" swAng="-5400000"/>
                <a:lnTo>
                  <a:pt x="0" y="24089"/>
                </a:lnTo>
                <a:arcTo wR="3600" hR="3600" stAng="10800000" swAng="-5400000"/>
                <a:lnTo>
                  <a:pt x="18000" y="27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sources of the Fu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pecial contribution to solid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don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mestic and foreign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Republic of Srps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ans of the units of local gover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x on the use, possession of asse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ees for the use of natural resources for the electricity gene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ns acquired through the sales of the property gained by committing a criminal of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5219640" y="1969920"/>
            <a:ext cx="3435480" cy="4627800"/>
          </a:xfrm>
          <a:custGeom>
            <a:avLst/>
            <a:gdLst>
              <a:gd name="textAreaLeft" fmla="*/ 167400 w 3435480"/>
              <a:gd name="textAreaRight" fmla="*/ 3268080 w 3435480"/>
              <a:gd name="textAreaTop" fmla="*/ 167400 h 4627800"/>
              <a:gd name="textAreaBottom" fmla="*/ 4460400 h 4627800"/>
            </a:gdLst>
            <a:ahLst/>
            <a:rect l="textAreaLeft" t="textAreaTop" r="textAreaRight" b="textAreaBottom"/>
            <a:pathLst>
              <a:path w="21600" h="29096">
                <a:moveTo>
                  <a:pt x="3600" y="0"/>
                </a:moveTo>
                <a:arcTo wR="3600" hR="3600" stAng="16200000" swAng="-5400000"/>
                <a:lnTo>
                  <a:pt x="0" y="25496"/>
                </a:lnTo>
                <a:arcTo wR="3600" hR="3600" stAng="10800000" swAng="-5400000"/>
                <a:lnTo>
                  <a:pt x="18000" y="290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und revenue  will be used for recovery  from the  damages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Residential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) Business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) Energy 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) Agricultural structures, equipment, machinery, crops and pl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) Live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) Transpor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) Water supply and sanitation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g) Water protection and irrigation faciliti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) Public institution build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ight Arrow 11"/>
          <p:cNvSpPr/>
          <p:nvPr/>
        </p:nvSpPr>
        <p:spPr>
          <a:xfrm>
            <a:off x="4568760" y="4057560"/>
            <a:ext cx="579600" cy="40320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7:13:24Z</dcterms:created>
  <dc:creator>olukic</dc:creator>
  <dc:description/>
  <dc:language>en-US</dc:language>
  <cp:lastModifiedBy>operater</cp:lastModifiedBy>
  <cp:lastPrinted>2014-10-09T12:50:07Z</cp:lastPrinted>
  <dcterms:modified xsi:type="dcterms:W3CDTF">2014-10-14T07:31:36Z</dcterms:modified>
  <cp:revision>261</cp:revision>
  <dc:subject/>
  <dc:title>ИЗГРАДЊА ДРУМСКЕ ОБИЛАЗНИЦЕ ОКО ГРАДА ТРЕБИЊА</dc:title>
</cp:coreProperties>
</file>